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85286"/>
        <c:axId val="30159919"/>
      </c:barChart>
      <c:catAx>
        <c:axId val="56285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59919"/>
        <c:crosses val="autoZero"/>
        <c:auto val="1"/>
        <c:lblAlgn val="ctr"/>
        <c:lblOffset val="100"/>
        <c:noMultiLvlLbl val="0"/>
      </c:catAx>
      <c:valAx>
        <c:axId val="30159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85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B35-A882-4A82-A4FD-1EA02D26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772-C34B-433E-8020-AD9AE7DC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92E-1C6C-4119-9011-74E3B307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F0B-A49F-4334-AB02-6D3D75A9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70E-97A6-4AA1-9669-A461C574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2F4-B2D9-437D-B637-89A8AE0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EFD-B221-4DD7-AA1E-6118D8E7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FDF-674D-4B40-9AC9-0EE473EE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E12-A2CE-468F-AE64-1FB9AC67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B12-9DDE-4193-8F8F-AB7D689A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3BE-F71C-4402-93B0-8F22BB10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CA2-C407-4C46-8F0F-3CD78F2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78CE8-4FC5-4466-A963-E48974CB56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