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98887"/>
        <c:axId val="39000753"/>
      </c:barChart>
      <c:catAx>
        <c:axId val="98598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00753"/>
        <c:crosses val="autoZero"/>
        <c:auto val="1"/>
        <c:lblAlgn val="ctr"/>
        <c:lblOffset val="100"/>
        <c:noMultiLvlLbl val="0"/>
      </c:catAx>
      <c:valAx>
        <c:axId val="39000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98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A75-DEA1-4BF2-B6EA-227E3421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FBA-28C7-4E03-9E92-1F28DA3B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E0F-828E-4E95-B94E-980AEF67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ED0-BD98-4618-A349-58AE3948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B24-9FFE-41A9-8556-ED1F44C1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5FF-96C3-4020-9BA4-9A3B415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ABB-EA6C-4A9C-BFAC-DA549C1B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D28-AEEC-4C1C-8581-EED1A5AE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9B1-4B77-44E2-9707-84EEC608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E24-296A-458F-953F-30383C35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5A4-BE6C-4863-AC15-7022392A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988-7115-4318-B5F7-4F711B3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7013D-6A10-4DE8-9D03-4A88AD76FE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