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54016"/>
        <c:axId val="9730525"/>
      </c:barChart>
      <c:catAx>
        <c:axId val="97754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0525"/>
        <c:crosses val="autoZero"/>
        <c:auto val="1"/>
        <c:lblAlgn val="ctr"/>
        <c:lblOffset val="100"/>
        <c:noMultiLvlLbl val="0"/>
      </c:catAx>
      <c:valAx>
        <c:axId val="9730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54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71D-6033-476C-A1DE-12A79FFD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58F-DFC6-4D72-853E-AD986936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717-8606-4F2B-9EC2-FE146261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3D8-53D5-493D-81DE-CA58FA51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D46-F4BA-441C-BCB6-A4EA41B8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E8B-6DFD-4AFE-8689-B644ADE0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257-DCE1-4759-9C7B-293DBD0D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381-A8E6-4BCD-8F76-9D050E84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750-31AA-4316-93EC-5D07FA5B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94D0-50F3-4F6E-9CC4-D64D4B5F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053-C3E5-46AB-829C-C8F553C9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353-63C5-495B-ABB1-6C5F3A90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4DE2F-2D2F-41C0-A612-2CB77B7F4B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