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898421"/>
        <c:axId val="36703661"/>
      </c:barChart>
      <c:catAx>
        <c:axId val="438984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03661"/>
        <c:crosses val="autoZero"/>
        <c:auto val="1"/>
        <c:lblAlgn val="ctr"/>
        <c:lblOffset val="100"/>
        <c:noMultiLvlLbl val="0"/>
      </c:catAx>
      <c:valAx>
        <c:axId val="367036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984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10E1-CE9B-4DCE-83BF-CAD4E5DD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2954-8240-4B77-B565-44194863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8561-46F4-401D-864F-97336434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260-CE13-410D-BC1C-CEBB70F9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C0A1-8A49-42BD-8F2A-5238714C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AA8-875C-4A72-ADA6-56300221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66E3-0075-40DC-93AA-BB353882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2C4E-A160-4311-83BD-737CDE07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05C1-6FE8-4C4F-BE5F-FDD877E6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EA7-CB21-4E90-8B8D-E52827A1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BDE-225D-49E3-95D7-FB370F57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7212-A9BD-43FD-B577-F89B1A00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D3B60-76FB-495E-AD3F-36551AC0E8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