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47D350-64D1-4EC3-BA41-BC0EF70160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E961E5-F405-484D-B06C-7108B959AF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2F2BF2-64E3-42AC-B646-5A9FD7DA39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EE1E6D-1B27-466E-8B86-A961404C55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1F85F60-8A3C-4E6D-87BC-321F29362D3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65162F-8D49-46E3-A3DF-C6E8FED913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0E5323-0C99-4286-85B2-1046B0CCF5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1076E3-1DB0-49F6-ABAA-2862E7E012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7E1D3A-8C3B-41D6-B39A-7B9D8CCEAD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6E6178-2E02-43F0-880A-DB68393F59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81DFAE-A903-48B1-8B5D-5A6C2B3074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219532-C201-4ED8-B4FC-5C9132CAC4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CF6C2E-E4FE-4EB2-9F94-88076A7083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8F64A9-5422-48FF-87C3-9B1B712317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0E2134-702D-4751-8E40-BFCDA0155C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1C7AD9F-3B11-4791-A61E-1592544ED68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F3E0523-56EB-4C2B-90D8-58590EB416D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676021-B313-4213-B455-90C4DC0D46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F39AA4-CD42-4A60-94D4-8C6CF1F94F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602EC3-C212-4F37-9878-24792D8C4C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389B90-3DFA-489A-B404-9A4CDE6CA4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3A3283-4260-424F-B5C1-98E0A8BEF0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6D4E9A-9207-42F7-ADF3-330D8EF8B3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7CCF6F-1F61-40AB-B89F-2177383AB7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FF3917-ADDC-48D7-888A-231B9F48BA9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A26C77-77B7-4582-954B-DEA151B976E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A446F0F-46C8-45F8-8D2B-373E64CA3FA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FD390F3-9532-4922-AE91-BC4430D02BE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EA476D-D49A-4C3A-BB53-5B94EE47604A}"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105CB4-E330-4193-8C66-A93D0BA68F3B}"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CD8888-5442-445E-A8AA-0D8975D9E1D3}"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E12ACC-50F7-4CC9-8DE7-935CAA275D03}"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180962-5B3F-451B-AADE-E2CC9FAD441D}"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682448-8790-4BBD-9FF7-FF922CB6BDD6}"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37FDF9-38BB-46B5-9969-B7373CD2F603}"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8C72BD-4035-4A92-946B-A39FF3173C0D}"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A92B9C-7F05-4402-B25D-92E6043F3101}"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D68632-D107-4477-AD97-6E2DAEB5244A}"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BD991A-B2C2-4E7D-8F54-87AEED552136}"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6C642E-0E0F-4985-9DDF-B38A57BA2AE9}"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9C5F35-C669-4DDA-AADB-450AD61D6BD1}"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96493C-7785-4415-BCC3-DDE22B2B97AC}"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2BBC74-C710-4AEE-B11B-84E5E37B38B2}"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07910F-3737-403A-8FBC-E011F590D75B}"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F6FDD2-CC30-4791-AD29-E0FFCA60AA64}"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84BEDF-5E8D-4C3D-B212-3CD37E3F9B20}"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FDCD45-EB9B-452C-8859-90A2B6BA3E05}"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3BA975-A5CF-421F-A49A-30BE4C20891D}"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AFDCFC-9B11-4689-95EC-7F076CF7797E}"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EB2E50-89CA-4EDC-B6D8-CBBC43DE1090}"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54C688-DB45-449E-B7F2-0813D03342C8}"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865EAD-71C3-4A1C-8853-A087916C551D}"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5E4311-DDDF-4F69-A449-C80493550399}"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908E9BA-3E5F-4062-B776-A31F6C8D1975}"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F1B8BE-8EFA-4DC8-83D3-4DECD90B7E09}"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19C159-1515-495A-BA1F-60C8C87A7AF7}"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E6CAB0-F2A2-4F39-8C91-30F8DBE0C4E6}"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50C688-AD5E-4CBF-9A57-FD87A22B1BED}"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8DFD85-5916-4EBA-BB9F-9435403B3685}"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1E33AC-AB42-4951-AB95-7DA57C4DEABA}"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8216EF-F63E-4EA1-B710-E55D2D5F4608}"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D46DB4-18B2-4E2D-830F-B16DC2BB0CB9}"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DB11D4-9FDA-433B-84F2-A25090C4064A}"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AE9679-1C87-4920-97BE-4F019AC3976D}"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33D8E1-0A5A-4C48-8403-D28CB8F382C6}"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92B5BD-EB43-4F13-A738-0912DDE6DF35}"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FD68AF-3E07-487D-B5E6-85815D5DAAC8}"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27B54B-78A1-4A23-B3D2-53070D7C01A1}"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75ACDA-0DDB-4F48-AD46-C64CCB2B9CBC}"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1ADC70-18EA-43F3-A52A-AE94AB1174A5}"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8403A3-F433-4C4B-AF03-091F3C5AC733}"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92E066-DF4D-48F0-8A94-69BCDA85F33E}"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08B90C-FB36-492D-9C7B-30B32E38B7CB}"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168D8B-0447-4D81-B6F7-3C4AF86D8940}"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76E860C-4831-41D3-A8BE-FC8715E976AB}"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5F11A2-65B0-4B67-9CEF-A25DE5C565D3}"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0265A5-F8A8-4143-BE5A-A9B52DD2B2FF}"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62C40C5-8CF1-4ED4-8692-885F05F47498}"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4C6ACC-A5A9-464F-98FE-6CCD1EEA6E33}"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CF6A22-9811-4737-85AF-655F392F4B67}"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B2F3B1-B110-406F-BA85-00AE4C5D1424}"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98FAA5-A18F-4BC5-91FC-6E4849C34248}"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582972-6BB6-450F-BAF5-174DC5ADA84A}"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1BD0E6-5BA9-45BF-8321-5D16CC6E5883}"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2FAD44-F805-46DE-A978-4F2F3E2E8353}"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4E23D2A-94E8-4CDE-91D8-65DAE5F1C737}"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570BA9-2184-4D38-B14D-E60BEE119407}"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F0AD8E-2E2F-407E-9B80-43A9E9500AA7}"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8A281A-7A1E-4C93-81B6-C9324E708F2F}"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03F645-7BED-4F9A-A605-9EC2C5C47518}"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F91C0F-231A-4F35-A021-F8B896CE1027}"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23B6CC2-64DD-434C-9421-64B549EE6195}"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3A66F5-E8B5-4F1E-8B00-B436D4A4856A}"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21C3C7-462E-4AD6-B619-3A00D1206347}"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AAD48B-5BD8-42B5-AFAC-8E1ED8EE2072}"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9CDBB7-EC47-448C-A963-DF2085403350}"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5B85B12-0CBE-4B03-85BC-BA12DA5BD2C8}"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5A22AB-A665-4E69-9DC5-991363CEE9D0}"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77261A-1BED-4C5E-8531-286EF6BB9FE9}"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7FD48B-2404-4411-9581-33FCFB1051F1}"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A93D88-B87C-4313-B30B-22BE490D7155}"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2C16EF-2B8C-4E6E-B302-2AA2BD669A8E}"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62E41F-36B5-48EE-B271-5F0D50E26008}"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B723D0F-8046-47B9-B6F7-DC03560480D6}"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207318-E7EC-4982-934E-B23D2E313909}"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2B52C5-72D4-4C7E-B4BB-47A0BBC91FC4}"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71D919-51DF-40FA-ABBB-559C81FEDA62}"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200EBA9-0782-4494-B50A-261DD67343BC}"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44B183-A83E-4ABA-B7B6-9BE3F780F551}"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7527E61-7137-47BA-9430-12D8ABB81544}"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B7A539-A8AB-4175-B9B2-959EF91FB889}"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28277D-2017-44DA-92EB-9CB5B8B34F2F}"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79F002-2C52-483E-A7DD-9E7B65A2E97D}"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8D79DE-435C-4190-BF92-5CFB31AAC788}"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C11FDD-97D1-42AE-BEEA-4305F4CCBFF0}"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8D305D-AD7F-4305-8D1D-D8AF595BCD30}"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B9F820-6FD7-4B94-BBBB-BC7A98371F57}"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06CDFC-A567-4E91-9AC6-FAEFA3A759DF}"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B56381-CD7D-4405-9C3C-027EF9C6C38C}"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82ED35-2087-40E4-9F6A-EFB72DA35E06}"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E74421-B639-4D59-AC1A-42E0D3FCA1DB}"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69821B-C32E-458C-A8CA-C2F0960F6EFD}"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2B3C72-F298-4575-977A-455EAFA57216}"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31457B-75EE-4CE5-8254-39B670B75431}"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915868-6136-4C46-9BF2-6415A0E6FB29}"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67FAE4D-7B67-4550-86DD-D78BA5C277C6}"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187035-8A78-485D-8E93-E9FAF02FA23B}"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23A4F6-BA4D-4A5D-91B6-69A8858EAA15}"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0D3BF0-9B8A-4745-BE8A-AC142624649F}"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E42EB2-BBB9-48DD-9F80-1568C209A442}"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F70929-A2A5-44E5-B105-A6D2B7CC5618}"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978797-916F-43D5-BBEC-8A2A81AFB9CE}"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34B491-3421-44D0-9604-BCC2E9AC64BA}"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E266C0-6A19-404E-A0E3-9450FADEDC8B}"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3911E7-64F6-477A-AB20-C73A5DA9B223}"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769F91-922B-488E-8F83-9A5BD03E5EBB}"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0CE32B-FF5C-4260-B9D7-D25D2A121548}"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785CF6-CF7F-41D6-BCA8-ADDD57FDFF4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BDF785-ADBE-42D5-9F96-819765A0DFCF}"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78C22B-4495-4B54-B3DD-C4E74473FF6B}"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F31409-57E8-4EEB-A416-DD7347ADF77F}"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8AE8C6-8BDB-4387-A20C-9B9B67C0F347}"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B8BA49-EC25-445A-B33C-E70181B27CED}"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9A1682-6311-4B1E-92D0-815789A9D031}"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904107-5BEB-4DC0-9537-0B0149519BE5}"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1B57DC-D789-40F7-B3F7-F9C328E45A1D}"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2BDEFE-CD5A-497A-876F-E877112A0EB8}"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67D47A-84BA-410B-9192-DD2FF0FFA6D4}"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8E9F32-9D2D-464C-B4EE-0717CA0AAE20}"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0EA387-91F7-414C-AE1A-F10C6257A886}"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E012D3-F17A-4DFD-9607-9ED648854398}"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7BC236-8A86-44E9-B280-BC061107E438}"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7B662D-DDAA-401C-A3F0-FDBFC102DDED}"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2FC8623-1CB4-4DAF-9042-BDC3FF030A3A}"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91305C-6245-4D32-AEB4-95D94E72BB7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EF2E6A-5EFF-40CD-8F53-4A2004937FF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720738-5F45-48B2-AB85-23417EF5921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D328DD-369D-40EE-80E5-142E604AD66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3ADD60-EA9B-4184-AC9D-789E65113B1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4CD41E-0890-45B4-A2A2-2AD66E9375F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2FF36BE-A31D-45EC-9D34-97D07F2018E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04F81C-28CD-4715-BE5C-1237713C68E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887F99-630A-4967-8166-D8FDAE6A68A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6B679C-D5E9-4FDA-9421-DDB4B7F0B9B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05188B-9767-45B2-8859-BAC5C190236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C4F483-EE86-4039-BBAF-668B049544F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950A4F-AC2C-446A-BB1D-3515DDDE40B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67FD06-AA18-43DB-88ED-855143B3EC8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BD35EA-E480-4A6A-8D0D-E64DC7C8AF3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790AA4-5BE8-4129-B3E1-147C3332B24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5DBFA4-EF9C-4B5B-9CFA-B2BFEC5B3CF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C7A088-183D-4367-8F4C-6A02D5C947A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2A831F-57BA-4F7E-8415-90350954667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859A6A-0FE0-4F6C-8BF8-8113BA06809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EC708B-FE51-4E3C-9528-6564ACC7891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1439AF-4E24-467E-9FBB-89A6CD1D049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01714E-A8A7-4F1A-87A0-893D972C40B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231707-F235-451E-83DF-405B5D56BD6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B568BC-F7A2-43A0-9E6E-90480AE73C8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D99734-B2B7-492C-9007-4774C5DAEA4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6642FE-9A32-400F-A160-CE18FEC27D3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5D3EC1-C733-4D10-A455-2D0221EC74E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B81C16-7776-4B95-AB8B-FF746129F01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D2FB7A-1A80-420B-B85E-009954F45C6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7C983A-4FE0-4A31-9377-1440C3AD13D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F0B6C5-F69E-4FA5-8957-CBA8A0EF222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357EF4-6841-4D74-9368-0499CC3CB66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D250F6-54BA-4370-91B3-64724EB3683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9C45FE-857E-4CBD-85E3-D0C79861501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B4D73F-916C-493F-BE92-9FDADE2A05B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5A493F-49F1-4DF4-B448-A220B14C9F8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39B392-86B6-4343-AE7B-E93043B1859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A85002-FC0C-4007-827F-BA7CB3676466}"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DCA85D-0B95-4AFA-A6DD-7CC36D0D862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36793A-D24D-43A5-BC3D-9D6809D5CE9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92DE3E-9BCF-455A-9A0C-BDD30BBBDA45}"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D5F1D4-98A2-4784-A178-57B335D2D21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6B0F05-A569-404C-A1CF-0470213870A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9C9460-12B2-463D-8D68-2796CDCC646A}"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41DC35-A562-4C7F-A251-76874A6DEBC9}"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C099AF-6446-44B2-8199-5170DEA231D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DF55554-2ED0-4D3C-835E-B38649B36827}"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7B5843-4EC4-43AE-A98E-F8C30FF34CA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C22D0A-1F88-4B62-AEBF-BB1D591906DC}"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3B1300-DEB9-4BE2-859B-671D31AE00C8}"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527A62-CCA4-4753-84A3-320B362F2BAB}"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CFB3C1-13BA-4EFE-9F0C-B18F553A797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E87B33-A3DE-4373-9409-ACD4A9B75970}"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F637EF-DB8E-4DAB-A498-6E9A0C5A5AD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EFB7EE-5509-4E46-BFBA-42236C943E9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824D5C6-3099-427B-8BD7-C66DF0CD3C3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F98972-AB4F-4280-87D9-B1D093C1DAC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EE8512-41A9-43EB-A237-9A29F7AB5DC1}"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ED9828-1F26-4623-9922-EF2AB4C5D9F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0FD705-9AD0-45CC-B0F1-4C79697530ED}"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81D806-BFCF-445A-872E-42DCEFA1B8B8}"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45FB49-819D-4378-986F-455CF77DEFD6}"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048701-CAEF-4653-9A6C-6AA7288C37E1}"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79F58D-621F-4EF7-9B98-36879B196F2B}"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4CD1CE-4209-48A3-AEA4-18B9A4DA66EF}"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9BAFA9-DB89-43E1-BDD5-3E582C00EBA6}"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8B3A18-E7A2-4BD2-86F2-57BA17DA3A3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197363-DACC-459B-BCE1-088D05C524E5}"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49D981-0F98-416C-98C2-ADB6E0DE58A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0DFF54-9B72-4BE0-AC7C-3A15C5D46745}"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45480BE-971D-41F0-B215-AEE2D8EEEDB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DABF9E-994F-49E3-ACBB-80ED1A2186FE}"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1BA265-9E98-4DBB-B418-D8CF2DA21AF7}"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595D19-7E75-4CF2-8BE4-CE2906D8102F}"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76E7D6-9107-4D99-AACF-C2DD3F8DAC8E}"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AF257B-59D9-4FD0-8B83-708EDB32ECF4}"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002A20-0E55-4E7A-B09C-59E9231A8345}"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A4C9F8-380A-44F9-9851-AD309B0D3A38}"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958F73-7AA5-4590-96DC-3A1DD860AA9C}"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B2C014-3B06-436C-9A21-BC2BD3431439}"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67B01C-A006-44A3-8D3D-44997CED69DD}"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94855A-C8C8-432E-967E-72A1AA8E23EE}"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C894B1-6671-4C29-A702-4B93128D8220}"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488F3C-9523-496C-89E8-26306F697A8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